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AB0-CF20-4836-B65C-6EBEC8D8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7A3-BEAF-41B3-812A-F399C781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6D9-DD7B-4F49-9F1B-B4500261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163-6C63-4D01-9D8B-AA16D510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4FE-AB60-48DF-BB66-FDD9AC9D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F5B-1AE5-4F92-A685-7D336764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48E-FA30-4ECA-BA26-437B2DCF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EFF-19E0-481B-A0BD-24360C9B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803-8B5A-45EB-B61E-F578600A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82B-96D7-494E-B03F-3F42A13A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5DA-D267-4C63-B2F2-AC70932E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E8E-AC15-478A-9F55-36D022EB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82C5-090A-420A-B82F-3547E2D0D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2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your holy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honour and glory are you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and for 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lessing and hon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glory and pow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yours for ever and e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15:51Z</dcterms:created>
  <dc:creator>Anon Anon</dc:creator>
  <dc:description/>
  <dc:language>en-US</dc:language>
  <cp:lastModifiedBy>Anon Anon</cp:lastModifiedBy>
  <dcterms:modified xsi:type="dcterms:W3CDTF">2005-08-09T05:24:45Z</dcterms:modified>
  <cp:revision>11</cp:revision>
  <dc:subject/>
  <dc:title>PowerPoint Presentation</dc:title>
</cp:coreProperties>
</file>